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43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5800" y="-360"/>
            <a:ext cx="4308480" cy="343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0520" y="51588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3600" y="3259080"/>
            <a:ext cx="7958160" cy="3083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1680"/>
            <a:ext cx="430704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5800" y="6511680"/>
            <a:ext cx="430848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D9F148-8519-4909-B641-29EE37750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60880" y="51588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3600" y="3259080"/>
            <a:ext cx="7958160" cy="30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5635800" y="6512040"/>
            <a:ext cx="4308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FB23AC-EA97-40EC-881A-FEB1959F4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C36-21C4-4EA2-87AD-F5BBFD02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C61-7B6E-4FEC-8CD5-423BE53F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FBF-B560-441A-BE6A-B5BF0D0C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B3E-F10E-422C-B6C5-E398303C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B34-C97A-46B0-966E-846BFC40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D30-FA9D-4847-81FE-5C32B2CF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9F9-11ED-47F3-98B2-5FAEF2EC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149-D281-48EB-9316-590C99DC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6CD-992D-4AF7-96B1-59EF1D34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3B7-58F7-49F1-8C36-D6F7A0A7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275-9E53-40F9-8C50-89FADB1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A7E-EE8F-4A47-9AA0-282BB88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1068-9F91-45C0-8D1F-1F11F44F9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-1908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50920" y="155736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аловий збір зерна за 2013 рік склав 410,8 тис. т, що на 71,7 тис. тонн більше у порівнянні із 2012 роком та на137,7 тис.тон більше 2011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ередня врожайність зернових культур скл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013 рік -64,1 ц/га, 2012 рік - 53,5 ц/га, 2011 рік -42,7 ц/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оменский-р-н2"/>
          <p:cNvPicPr/>
          <p:nvPr/>
        </p:nvPicPr>
        <p:blipFill>
          <a:blip r:embed="rId2"/>
          <a:srcRect l="22617" t="10061" r="8645" b="73887"/>
          <a:stretch/>
        </p:blipFill>
        <p:spPr>
          <a:xfrm>
            <a:off x="0" y="55440"/>
            <a:ext cx="457200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-5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81"/>
          <p:cNvSpPr/>
          <p:nvPr/>
        </p:nvSpPr>
        <p:spPr>
          <a:xfrm>
            <a:off x="4934520" y="26208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Сільське 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&amp;Kcy;&amp;acy;&amp;rcy;&amp;tcy;&amp;icy;&amp;ncy;&amp;kcy;&amp;acy; 21 &amp;icy;&amp;zcy; 1226"/>
          <p:cNvPicPr/>
          <p:nvPr/>
        </p:nvPicPr>
        <p:blipFill>
          <a:blip r:embed="rId3"/>
          <a:stretch/>
        </p:blipFill>
        <p:spPr>
          <a:xfrm>
            <a:off x="4716360" y="3284640"/>
            <a:ext cx="431964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&amp;Kcy;&amp;acy;&amp;rcy;&amp;tcy;&amp;icy;&amp;ncy;&amp;kcy;&amp;acy; 1 &amp;icy;&amp;zcy; 1227"/>
          <p:cNvPicPr/>
          <p:nvPr/>
        </p:nvPicPr>
        <p:blipFill>
          <a:blip r:embed="rId4"/>
          <a:stretch/>
        </p:blipFill>
        <p:spPr>
          <a:xfrm>
            <a:off x="0" y="342900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D:\Новая папка\Фото господарств\Урожайна країна\DSC01734.JPG"/>
          <p:cNvPicPr/>
          <p:nvPr/>
        </p:nvPicPr>
        <p:blipFill>
          <a:blip r:embed="rId5"/>
          <a:stretch/>
        </p:blipFill>
        <p:spPr>
          <a:xfrm>
            <a:off x="457200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C:\Users\Admin\Desktop\images.jpg"/>
          <p:cNvPicPr/>
          <p:nvPr/>
        </p:nvPicPr>
        <p:blipFill>
          <a:blip r:embed="rId6"/>
          <a:stretch/>
        </p:blipFill>
        <p:spPr>
          <a:xfrm>
            <a:off x="0" y="3284640"/>
            <a:ext cx="4427640" cy="35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D:\Новая папка\Фото господарств\Урожайна країна\DSC01721.JPG"/>
          <p:cNvPicPr/>
          <p:nvPr/>
        </p:nvPicPr>
        <p:blipFill>
          <a:blip r:embed="rId7"/>
          <a:stretch/>
        </p:blipFill>
        <p:spPr>
          <a:xfrm>
            <a:off x="0" y="3284640"/>
            <a:ext cx="4427640" cy="3573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кругленный прямоугольник 4"/>
          <p:cNvSpPr/>
          <p:nvPr/>
        </p:nvSpPr>
        <p:spPr>
          <a:xfrm>
            <a:off x="468360" y="1628640"/>
            <a:ext cx="8408880" cy="648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цтво  кукуруд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96000" y="333000"/>
            <a:ext cx="289080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Сільське господарство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Admin\Desktop\загруженное.jpg"/>
          <p:cNvPicPr/>
          <p:nvPr/>
        </p:nvPicPr>
        <p:blipFill>
          <a:blip r:embed="rId2"/>
          <a:stretch/>
        </p:blipFill>
        <p:spPr>
          <a:xfrm>
            <a:off x="6732720" y="4019400"/>
            <a:ext cx="2144520" cy="221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Admin\Desktop\загруженное (1).jpg"/>
          <p:cNvPicPr/>
          <p:nvPr/>
        </p:nvPicPr>
        <p:blipFill>
          <a:blip r:embed="rId3"/>
          <a:stretch/>
        </p:blipFill>
        <p:spPr>
          <a:xfrm>
            <a:off x="6732720" y="2349360"/>
            <a:ext cx="214452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Диаграмма 2" descr=""/>
          <p:cNvPicPr/>
          <p:nvPr/>
        </p:nvPicPr>
        <p:blipFill>
          <a:blip r:embed="rId4"/>
          <a:stretch/>
        </p:blipFill>
        <p:spPr>
          <a:xfrm>
            <a:off x="388800" y="2441520"/>
            <a:ext cx="5818320" cy="3567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2"/>
          <p:cNvSpPr/>
          <p:nvPr/>
        </p:nvSpPr>
        <p:spPr>
          <a:xfrm>
            <a:off x="5651640" y="40464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Times New Roman"/>
              </a:rPr>
              <a:t>Сільське госпо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7"/>
          <p:cNvSpPr/>
          <p:nvPr/>
        </p:nvSpPr>
        <p:spPr>
          <a:xfrm>
            <a:off x="620640" y="1628640"/>
            <a:ext cx="7623360" cy="432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1aaf0"/>
              </a:gs>
              <a:gs pos="100000">
                <a:srgbClr val="e6e8fb"/>
              </a:gs>
            </a:gsLst>
            <a:lin ang="16200000"/>
          </a:gradFill>
          <a:ln w="9360">
            <a:solidFill>
              <a:srgbClr val="0031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робничі здобутки в рослинницт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2195640" y="2276640"/>
            <a:ext cx="5049720" cy="504720"/>
          </a:xfrm>
          <a:prstGeom prst="rect">
            <a:avLst/>
          </a:prstGeom>
          <a:gradFill rotWithShape="0">
            <a:gsLst>
              <a:gs pos="0">
                <a:srgbClr val="a1aaf0"/>
              </a:gs>
              <a:gs pos="100000">
                <a:srgbClr val="e6e8fb"/>
              </a:gs>
            </a:gsLst>
            <a:lin ang="16200000"/>
          </a:gradFill>
          <a:ln w="9360">
            <a:solidFill>
              <a:srgbClr val="0031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ладено зерна до регіональних продовольчих запас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3"/>
          <p:cNvSpPr/>
          <p:nvPr/>
        </p:nvSpPr>
        <p:spPr>
          <a:xfrm>
            <a:off x="2627280" y="2852640"/>
            <a:ext cx="485640" cy="2890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альтернативный процесс 4"/>
          <p:cNvSpPr/>
          <p:nvPr/>
        </p:nvSpPr>
        <p:spPr>
          <a:xfrm>
            <a:off x="2195640" y="3213000"/>
            <a:ext cx="1439640" cy="378000"/>
          </a:xfrm>
          <a:prstGeom prst="flowChartAlternateProcess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a1400"/>
                </a:solidFill>
                <a:latin typeface="Arial"/>
              </a:rPr>
              <a:t>6616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5"/>
          <p:cNvSpPr/>
          <p:nvPr/>
        </p:nvSpPr>
        <p:spPr>
          <a:xfrm>
            <a:off x="5651640" y="2852640"/>
            <a:ext cx="485640" cy="2890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альтернативный процесс 12"/>
          <p:cNvSpPr/>
          <p:nvPr/>
        </p:nvSpPr>
        <p:spPr>
          <a:xfrm>
            <a:off x="5148360" y="3213000"/>
            <a:ext cx="1439640" cy="378000"/>
          </a:xfrm>
          <a:prstGeom prst="flowChartAlternateProcess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43% до зав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роцесс 13"/>
          <p:cNvSpPr/>
          <p:nvPr/>
        </p:nvSpPr>
        <p:spPr>
          <a:xfrm>
            <a:off x="2195640" y="4221000"/>
            <a:ext cx="5049720" cy="503280"/>
          </a:xfrm>
          <a:prstGeom prst="flowChartProcess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алізовано зерна до державного інтервенційного фо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14"/>
          <p:cNvSpPr/>
          <p:nvPr/>
        </p:nvSpPr>
        <p:spPr>
          <a:xfrm>
            <a:off x="2627280" y="4797360"/>
            <a:ext cx="48564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5"/>
          <p:cNvSpPr/>
          <p:nvPr/>
        </p:nvSpPr>
        <p:spPr>
          <a:xfrm>
            <a:off x="2195640" y="5300640"/>
            <a:ext cx="1439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068 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Eugene\Desktop\turechchina_provodit_2.jpg"/>
          <p:cNvPicPr/>
          <p:nvPr/>
        </p:nvPicPr>
        <p:blipFill>
          <a:blip r:embed="rId2"/>
          <a:stretch/>
        </p:blipFill>
        <p:spPr>
          <a:xfrm>
            <a:off x="4913280" y="5084640"/>
            <a:ext cx="2352600" cy="2175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68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8" descr="Роменский-р-н2"/>
          <p:cNvPicPr/>
          <p:nvPr/>
        </p:nvPicPr>
        <p:blipFill>
          <a:blip r:embed="rId2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81"/>
          <p:cNvSpPr/>
          <p:nvPr/>
        </p:nvSpPr>
        <p:spPr>
          <a:xfrm>
            <a:off x="4934520" y="26208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Сільське 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&amp;Kcy;&amp;acy;&amp;rcy;&amp;tcy;&amp;icy;&amp;ncy;&amp;kcy;&amp;acy; 19 &amp;icy;&amp;zcy; 375"/>
          <p:cNvPicPr/>
          <p:nvPr/>
        </p:nvPicPr>
        <p:blipFill>
          <a:blip r:embed="rId3"/>
          <a:stretch/>
        </p:blipFill>
        <p:spPr>
          <a:xfrm>
            <a:off x="4716360" y="2492280"/>
            <a:ext cx="4248360" cy="3313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7"/>
          <p:cNvSpPr/>
          <p:nvPr/>
        </p:nvSpPr>
        <p:spPr>
          <a:xfrm>
            <a:off x="468360" y="162864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иробничі показники в тваринницт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47840" y="2295000"/>
            <a:ext cx="403848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олів'я ВРХ         7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олів'я корів       3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олів'я свиней    26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олів'я птиці       236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робництво         15130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олоко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т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робництво          10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'яса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робництво          93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єц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ис.ш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C:\Users\Admin\Desktop\images (1).jpg"/>
          <p:cNvPicPr/>
          <p:nvPr/>
        </p:nvPicPr>
        <p:blipFill>
          <a:blip r:embed="rId4"/>
          <a:stretch/>
        </p:blipFill>
        <p:spPr>
          <a:xfrm>
            <a:off x="4716360" y="2492280"/>
            <a:ext cx="4248360" cy="331308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ый прямоугольник 2"/>
          <p:cNvSpPr/>
          <p:nvPr/>
        </p:nvSpPr>
        <p:spPr>
          <a:xfrm>
            <a:off x="3492360" y="2349360"/>
            <a:ext cx="1079640" cy="28764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+266 г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3"/>
          <p:cNvSpPr/>
          <p:nvPr/>
        </p:nvSpPr>
        <p:spPr>
          <a:xfrm>
            <a:off x="3492360" y="2708280"/>
            <a:ext cx="1079640" cy="2160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+12 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4"/>
          <p:cNvSpPr/>
          <p:nvPr/>
        </p:nvSpPr>
        <p:spPr>
          <a:xfrm>
            <a:off x="3492360" y="2997360"/>
            <a:ext cx="1067040" cy="2872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+442 г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5"/>
          <p:cNvSpPr/>
          <p:nvPr/>
        </p:nvSpPr>
        <p:spPr>
          <a:xfrm>
            <a:off x="3492360" y="3357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33184 г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с одним вырезанным скругленным углом 6"/>
          <p:cNvSpPr/>
          <p:nvPr/>
        </p:nvSpPr>
        <p:spPr>
          <a:xfrm>
            <a:off x="3357720" y="4017960"/>
            <a:ext cx="1211040" cy="27468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1117 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с двумя скругленными соседними углами 14"/>
          <p:cNvSpPr/>
          <p:nvPr/>
        </p:nvSpPr>
        <p:spPr>
          <a:xfrm>
            <a:off x="3348000" y="4581360"/>
            <a:ext cx="1211400" cy="28764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184 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с двумя скругленными соседними углами 15"/>
          <p:cNvSpPr/>
          <p:nvPr/>
        </p:nvSpPr>
        <p:spPr>
          <a:xfrm>
            <a:off x="3348000" y="5229360"/>
            <a:ext cx="1211400" cy="28728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+3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6"/>
          <p:cNvSpPr/>
          <p:nvPr/>
        </p:nvSpPr>
        <p:spPr>
          <a:xfrm>
            <a:off x="1042920" y="1614600"/>
            <a:ext cx="7632720" cy="5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робничі показники в тваринницт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-1116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5003640" y="-270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Сільське 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4038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едньомісячна заробіт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лата працівників сільського господар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2 рік  -1856,92 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3 рік  - 2210,55 грн.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18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едньооблікова чисельність працівників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2 рік                  -1418 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3 рік                  -1578 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раховано орендної плати за земельні частки(паї)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3 рік                           35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плачено                    99,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1628640"/>
            <a:ext cx="8353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робітна плата , орендна плата за 2013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D:\Новая папка\Фото господарств\Фото урожанйна країна 112.jpg"/>
          <p:cNvPicPr/>
          <p:nvPr/>
        </p:nvPicPr>
        <p:blipFill>
          <a:blip r:embed="rId2"/>
          <a:stretch/>
        </p:blipFill>
        <p:spPr>
          <a:xfrm>
            <a:off x="4643280" y="2205000"/>
            <a:ext cx="4321440" cy="410364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1"/>
          <p:cNvSpPr/>
          <p:nvPr/>
        </p:nvSpPr>
        <p:spPr>
          <a:xfrm>
            <a:off x="1258920" y="1628640"/>
            <a:ext cx="72007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abdd"/>
              </a:gs>
              <a:gs pos="100000">
                <a:srgbClr val="f1e9f6"/>
              </a:gs>
            </a:gsLst>
            <a:lin ang="162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обітна плата,орендна плата за 2013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96000" y="274320"/>
            <a:ext cx="289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Сільське господарство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 u="sng">
                <a:solidFill>
                  <a:srgbClr val="e40059"/>
                </a:solidFill>
                <a:uFillTx/>
                <a:latin typeface="Arial"/>
              </a:rPr>
              <a:t>Залучено всього  111,3 млн.грн</a:t>
            </a:r>
            <a:r>
              <a:rPr b="1" lang="uk-UA" sz="1800" spc="-1" strike="noStrike">
                <a:solidFill>
                  <a:srgbClr val="e4005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349e"/>
                </a:solidFill>
                <a:latin typeface="Arial"/>
              </a:rPr>
              <a:t>Інфрастр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49e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349e"/>
                </a:solidFill>
                <a:latin typeface="Arial"/>
              </a:rPr>
              <a:t>аграрного ринку   88,5 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Рослинниц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галузь                    2,0    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дбання с/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ехніки                   17,5  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Тваринниц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галузь                    1,5   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3280" y="1699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лучення капітальних інвестицій в агропромисловий розвиток в 2013 роц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2492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D:\Новая папка 2\Андріяшівський елеватор\елеватор\1111\IMG_0004.JPG"/>
          <p:cNvPicPr/>
          <p:nvPr/>
        </p:nvPicPr>
        <p:blipFill>
          <a:blip r:embed="rId2"/>
          <a:stretch/>
        </p:blipFill>
        <p:spPr>
          <a:xfrm>
            <a:off x="4643280" y="2492280"/>
            <a:ext cx="4392720" cy="3673440"/>
          </a:xfrm>
          <a:prstGeom prst="rect">
            <a:avLst/>
          </a:prstGeom>
          <a:ln w="0">
            <a:noFill/>
          </a:ln>
        </p:spPr>
      </p:pic>
      <p:sp>
        <p:nvSpPr>
          <p:cNvPr id="105" name="Скругленный прямоугольник 1"/>
          <p:cNvSpPr/>
          <p:nvPr/>
        </p:nvSpPr>
        <p:spPr>
          <a:xfrm>
            <a:off x="4643280" y="6093000"/>
            <a:ext cx="4392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abdd"/>
              </a:gs>
              <a:gs pos="100000">
                <a:srgbClr val="f1e9f6"/>
              </a:gs>
            </a:gsLst>
            <a:lin ang="162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П «Андріяшівський елеват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92720" y="404640"/>
            <a:ext cx="3394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Сільське господарство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7" name="Picture 6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-1116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826920" y="1916280"/>
            <a:ext cx="7561440" cy="576000"/>
          </a:xfrm>
          <a:prstGeom prst="rect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несок аграрних формувань у розвиток сільських територ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2013 ро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1403280" y="2781360"/>
            <a:ext cx="2952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дійшло коштів на розвиток сільських територ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Штриховая стрелка вправо 6"/>
          <p:cNvSpPr/>
          <p:nvPr/>
        </p:nvSpPr>
        <p:spPr>
          <a:xfrm>
            <a:off x="4932360" y="2781360"/>
            <a:ext cx="977760" cy="792000"/>
          </a:xfrm>
          <a:custGeom>
            <a:avLst/>
            <a:gdLst/>
            <a:ahLst/>
            <a:rect l="l" t="t" r="r" b="b"/>
            <a:pathLst>
              <a:path w="977900" h="792163">
                <a:moveTo>
                  <a:pt x="0" y="198041"/>
                </a:moveTo>
                <a:lnTo>
                  <a:pt x="24755" y="198041"/>
                </a:lnTo>
                <a:lnTo>
                  <a:pt x="24755" y="594122"/>
                </a:lnTo>
                <a:lnTo>
                  <a:pt x="0" y="594122"/>
                </a:lnTo>
                <a:lnTo>
                  <a:pt x="0" y="198041"/>
                </a:lnTo>
                <a:close/>
                <a:moveTo>
                  <a:pt x="49510" y="198041"/>
                </a:moveTo>
                <a:lnTo>
                  <a:pt x="99020" y="198041"/>
                </a:lnTo>
                <a:lnTo>
                  <a:pt x="99020" y="594122"/>
                </a:lnTo>
                <a:lnTo>
                  <a:pt x="49510" y="594122"/>
                </a:lnTo>
                <a:lnTo>
                  <a:pt x="49510" y="198041"/>
                </a:lnTo>
                <a:close/>
                <a:moveTo>
                  <a:pt x="123775" y="198041"/>
                </a:moveTo>
                <a:lnTo>
                  <a:pt x="581819" y="198041"/>
                </a:lnTo>
                <a:lnTo>
                  <a:pt x="581819" y="0"/>
                </a:lnTo>
                <a:lnTo>
                  <a:pt x="977900" y="396082"/>
                </a:lnTo>
                <a:lnTo>
                  <a:pt x="581819" y="792163"/>
                </a:lnTo>
                <a:lnTo>
                  <a:pt x="581819" y="594122"/>
                </a:lnTo>
                <a:lnTo>
                  <a:pt x="123775" y="594122"/>
                </a:lnTo>
                <a:lnTo>
                  <a:pt x="123775" y="198041"/>
                </a:lnTo>
                <a:close/>
              </a:path>
            </a:pathLst>
          </a:cu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7"/>
          <p:cNvSpPr/>
          <p:nvPr/>
        </p:nvSpPr>
        <p:spPr>
          <a:xfrm>
            <a:off x="6588000" y="2781360"/>
            <a:ext cx="1800360" cy="65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fb2"/>
              </a:gs>
              <a:gs pos="100000">
                <a:srgbClr val="ffd9e7"/>
              </a:gs>
            </a:gsLst>
            <a:lin ang="16200000"/>
          </a:gradFill>
          <a:ln w="9360">
            <a:solidFill>
              <a:srgbClr val="fe32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D:\Новая папка 2\Школи Ром.района 2013 соц.угоди\Анастасівська ЗОШ.JPG"/>
          <p:cNvPicPr/>
          <p:nvPr/>
        </p:nvPicPr>
        <p:blipFill>
          <a:blip r:embed="rId2"/>
          <a:stretch/>
        </p:blipFill>
        <p:spPr>
          <a:xfrm>
            <a:off x="826920" y="3789360"/>
            <a:ext cx="3733920" cy="23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Новая папка 2\Школи Ром.района 2013 соц.угоди\22222222222\Герасимівка.JPG"/>
          <p:cNvPicPr/>
          <p:nvPr/>
        </p:nvPicPr>
        <p:blipFill>
          <a:blip r:embed="rId3"/>
          <a:stretch/>
        </p:blipFill>
        <p:spPr>
          <a:xfrm>
            <a:off x="5148360" y="3789360"/>
            <a:ext cx="3744720" cy="237636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1"/>
          <p:cNvSpPr/>
          <p:nvPr/>
        </p:nvSpPr>
        <p:spPr>
          <a:xfrm>
            <a:off x="1042920" y="6093000"/>
            <a:ext cx="316872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abdd"/>
              </a:gs>
              <a:gs pos="100000">
                <a:srgbClr val="f1e9f6"/>
              </a:gs>
            </a:gsLst>
            <a:lin ang="162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стасівська З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5421240" y="6093000"/>
            <a:ext cx="318312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abdd"/>
              </a:gs>
              <a:gs pos="100000">
                <a:srgbClr val="f1e9f6"/>
              </a:gs>
            </a:gsLst>
            <a:lin ang="162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расимівська З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2:56:40Z</dcterms:created>
  <dc:creator>1</dc:creator>
  <dc:description/>
  <dc:language>en-US</dc:language>
  <cp:lastModifiedBy>Admin</cp:lastModifiedBy>
  <cp:lastPrinted>2014-02-12T09:54:28Z</cp:lastPrinted>
  <dcterms:modified xsi:type="dcterms:W3CDTF">2014-03-11T08:51:31Z</dcterms:modified>
  <cp:revision>1045</cp:revision>
  <dc:subject/>
  <dc:title>Слайд 1</dc:title>
</cp:coreProperties>
</file>